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619-3B08-4213-8952-E6745A1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01B-8F94-44F5-A742-DCD39C74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C6A-F281-441B-88F1-470A2BA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4DC-57DB-4BC7-B709-F02845BE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3FD7-3BBA-4131-A4B1-888B810B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4123-801F-40E3-804F-32F18AB8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1478-5223-4CBF-8151-29FC9E26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B67C-E9BE-4C82-993F-92272D3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1D9E-21A8-485A-99A0-00C06869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CE3-AE78-43C7-BD6D-1270AB1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E7BC-D469-49D3-97B4-1A4604F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328-797A-4455-8552-DB3329E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E5D4-5B9A-40DD-817C-E228D37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9355-91E4-4545-9D82-2019B5A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B43C-A7E3-4DA6-B7B0-887761D8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E4C0-4683-4FF9-BC69-BB105366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56F0-3303-4DF5-B638-6318E2C1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5A9-5F26-4322-BCDC-3230A3E9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8FB-1098-45CC-8DEF-67AD0479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973-2061-4C6D-A000-C9A1B5E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193-9B41-4AEC-973C-3F9DA5F3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8D1-87E1-4D64-9760-4AB1E10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115-0A72-47D8-BB18-BC3A06C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AC7-1DCA-4B87-B539-28671D5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BDF4-7B2F-4A7E-819F-E6935044A6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4E63-0EF5-47A1-A586-A77571BAAB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06064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KJET PRINT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PIXMA iP3500"/>
          <p:cNvPicPr/>
          <p:nvPr/>
        </p:nvPicPr>
        <p:blipFill>
          <a:blip r:embed="rId3"/>
          <a:stretch/>
        </p:blipFill>
        <p:spPr>
          <a:xfrm>
            <a:off x="4211640" y="5013360"/>
            <a:ext cx="3191040" cy="29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Canon - Advanced Simplicity"/>
          <p:cNvPicPr/>
          <p:nvPr/>
        </p:nvPicPr>
        <p:blipFill>
          <a:blip r:embed="rId4"/>
          <a:stretch/>
        </p:blipFill>
        <p:spPr>
          <a:xfrm>
            <a:off x="3059280" y="501336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3360" y="749160"/>
            <a:ext cx="7883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ges per minu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The Cannon Pixma can print up to 17 coloured pages per minute while it can print up to 25 pages per minute using black ink onl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005360"/>
            <a:ext cx="8229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86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The resolution of the Cannon Pixma printer is 4800 x 1200dpi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this be connected to a net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This printer can be connected to your computer by a USB cable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ff"/>
                </a:solidFill>
                <a:latin typeface="Arial"/>
              </a:rPr>
              <a:t>You can also connect your phone and camera via the pictbrid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3048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2:48:20Z</dcterms:created>
  <dc:creator>hug0003</dc:creator>
  <dc:description/>
  <dc:language>en-US</dc:language>
  <cp:lastModifiedBy>hug0003</cp:lastModifiedBy>
  <dcterms:modified xsi:type="dcterms:W3CDTF">2008-09-16T02:53:53Z</dcterms:modified>
  <cp:revision>2</cp:revision>
  <dc:subject/>
  <dc:title>Slide 1</dc:title>
</cp:coreProperties>
</file>